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D04F-F77B-4675-B2C4-F2D22E00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35AE-848F-4A48-A18B-C40ACBA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AA50-BE4A-4166-ADAB-666AB0D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589C-146A-4901-862D-63179244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FF6F-1A6F-4243-9343-698A1BD5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2008-29D6-42EE-8ED1-89BD1DA4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B3B6-A197-45CF-ACF4-25A8FCA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718-08DD-451A-AA1B-CAE0586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F56-D9ED-480C-9572-134F7E55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158-7BD9-44E0-B9D5-18C5D25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8A62-8935-4A94-AF3B-714D9C6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6D27-CE12-40F6-993D-2703388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6430-1E9D-44D1-86FE-6577D5E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EE5A-1D15-4938-88C5-7204D5C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9A19-24B6-4BC6-BFC2-4D549E9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C9C1-D504-4565-9962-87C0517B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5573-5DB8-43EC-9FF6-23DBD644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BAC7-0512-412A-A5A7-2F3F50D2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E7EC-C1BA-4F7F-A65B-26D04CA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4A80-9109-4DEB-AC34-127981F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F521-DA69-4CC4-A0DB-455F415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40D7-EB5E-4437-BC3D-A464477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1887-5FE4-4EBB-B11A-55C81068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DD9E-76E2-4297-9964-C8D65AB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098B-C5CA-479F-9663-D5DE3DB65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3A5C-0112-4FE9-B90C-3E73FFD8070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33E-14EC-408F-BD47-664C7A68AA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CBA0-4D21-4B56-AEE0-F052CCD05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DEF-CD6B-456A-BF99-1F7860930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CF2-C045-437C-A29E-D43A822639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Bevel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5CE4-1718-4363-91C7-4110CF71A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3A5-2B6F-4056-B216-14E01BFE8E2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gọi, thời gia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ội 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hực hiệ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5"/>
          <p:cNvSpPr/>
          <p:nvPr/>
        </p:nvSpPr>
        <p:spPr>
          <a:xfrm>
            <a:off x="304920" y="33480"/>
            <a:ext cx="8458200" cy="1490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. 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F433-A63A-4563-AFD9-4AB3002EC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F87C-4EC3-4D64-9E3A-F02ED579197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7" name="Picture 2" descr="http://www.khtc.ueh.edu.vn/Upload/TinTuc/ngansach.jpg"/>
          <p:cNvPicPr/>
          <p:nvPr/>
        </p:nvPicPr>
        <p:blipFill>
          <a:blip r:embed="rId1"/>
          <a:stretch/>
        </p:blipFill>
        <p:spPr>
          <a:xfrm>
            <a:off x="455292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pleiku.gialai.edu.vn/upload/editor/image/NH%202010-2011/157_SGD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D263-F5E0-4847-9609-FF8C18BDC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415-7094-4511-9442-C792E06ED4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ủa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ý do tiến hành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iế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. 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B48-D3CC-4E4A-B2DF-89F857F39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1DF-D4FC-4D02-B460-35E7F4A366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6" name="Picture 2" descr="http://www.lhu.edu.vn/Data/News/232/images/imageas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7" name="Picture 4" descr="http://forum.duytan.edu.vn/Uploads/5d012f50-a812-41ae-82f4-aef0fe54d287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8" name="Picture 6" descr="http://www.vinacorp.vn/Upload/News/image/CTCP%20%C4%90%E1%BA%A1t%20Ph%C6%B0%C6%A1ng%20-%20Thong%20bao%20tra%20co%20tuc%20dot%202-sua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dlu.edu.vn/ImageUpload/2012322104218455scan002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0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DBD-E9DD-4400-BCCE-4D94B2A79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02F5-D328-4A6B-A052-3098D540DE9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4" name="Picture 2" descr="http://haugiang.edu.vn/UserFiles/HEAD733/Image/Picture%2001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95" name="Picture 4" descr="http://www.vidipha.com.vn/tu%20lieu/DHCD%202012/chu%20ky%20moi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6379-D253-4790-9C77-59B84138E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1A3-2585-4D8A-95FF-33CE2695F3E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hiệm vụ được g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yêu cầu khi thực hiện nhiệm v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iện pháp cần áp dụng để hoàn thành nhiệm v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. 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459C-0665-4727-B906-747532B9A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DC0B-623E-4D86-94B6-1B1A3684812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3" name="Picture 2" descr="http://amc.edu.vn/Upload/Thong-bao-tap-chu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04" name="Picture 4" descr="http://www.shs.com.vn/Sites/QuoteVN/SiteRoot/documents/Doc/Thong%20b%C3%A1o%20website-%20VRG1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5" name="Multiply 5"/>
          <p:cNvSpPr/>
          <p:nvPr/>
        </p:nvSpPr>
        <p:spPr>
          <a:xfrm>
            <a:off x="2209680" y="0"/>
            <a:ext cx="472464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A6C7-C66D-4476-BE33-5DB8779D9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DA9-6D00-4CB6-9139-5E61887F11D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F0C-BA4D-4740-A09D-3B2127F70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600-97D9-4D09-BC24-A8287647FA6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BÁ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………...............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Kính gởi: ……………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Muïc ñích, chuû theå, thaåm quye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Nhöõng nội dung ca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Yeâu caàu thöïc hieän, thôøi gian toå chöùc vaø hieäu löïc thi haønh, quy taéc xöû söï seõ ñöôïc aùp duïng neáu vi phaïm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657600" y="274320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B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ư trên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2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rame 13"/>
          <p:cNvSpPr/>
          <p:nvPr/>
        </p:nvSpPr>
        <p:spPr>
          <a:xfrm>
            <a:off x="-76320" y="0"/>
            <a:ext cx="9220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01C1-5451-4814-8F7E-78B969419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7F9-EF81-4E9B-882C-54A5BFCC364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hông báo và những nội dung chính của các loại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ông báo của GĐ Cty TNHH Hòa Bình gửi Phòng Đăng ký kinh doanh – Sở KH&amp;ĐT TP.HCM và Chi cục Thuế quận Gò Vấp về việc thay đổi địa chỉ trụ sở Cty. (30 phút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28526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1DB6-A61B-4BC1-9ABD-3A1B3DE2D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8940-2788-4B2D-8A66-22407411522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DCF-013F-4DA5-B52B-3DA6A12C8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88C-D918-44F9-B92F-6A4B5E2CEB1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loại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ài tậ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1" name="Picture 6" descr="http://choigame24h.net/thanh-cat-tu-han/wp-content/uploads/2012/11/thong-bao.png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2" name="Frame 7"/>
          <p:cNvSpPr/>
          <p:nvPr/>
        </p:nvSpPr>
        <p:spPr>
          <a:xfrm>
            <a:off x="380880" y="1066680"/>
            <a:ext cx="8305920" cy="53341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3CFB-FC83-4C25-AEFA-3098FAB39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AB1B-7889-4FD6-8E15-EF01BA2816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52578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 đa n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quyết định, tin tức,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về hoạt động của CQ,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chủ trương, chính sá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8" name="Picture 6" descr="http://cite.ueb.edu.vn/sites/default/files/thongbao_4.jpg"/>
          <p:cNvPicPr/>
          <p:nvPr/>
        </p:nvPicPr>
        <p:blipFill>
          <a:blip r:embed="rId1"/>
          <a:stretch/>
        </p:blipFill>
        <p:spPr>
          <a:xfrm>
            <a:off x="5791320" y="990720"/>
            <a:ext cx="291456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E9B-B05C-4FA7-91F1-2FCD4F58B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B2CC-C7E5-4645-9331-A34DA8595DE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nhanh chóng, kịp thờ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ắn gọn, cụ thể, dễ h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ông lập luận, nhận định dài d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rõ nội dung cần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mục đích và thẩm quyền ra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ẨU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4" name="Picture 6" descr="http://us.123rf.com/400wm/400/400/snake3d/snake3d1103/snake3d110300038/9099154-propaganda-megafono-annunciare-originale-elegante-altoparlante-colorato-notizie-multimediali-blog-on.jpg"/>
          <p:cNvPicPr/>
          <p:nvPr/>
        </p:nvPicPr>
        <p:blipFill>
          <a:blip r:embed="rId1"/>
          <a:stretch/>
        </p:blipFill>
        <p:spPr>
          <a:xfrm>
            <a:off x="4572000" y="4419720"/>
            <a:ext cx="4114800" cy="1981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58B-2FEB-483B-BE97-D21404E23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14C1-BEBB-468D-978E-BC00B0831E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êu mục đích, chủ thể, thẩm quyền ra thông báo, đối tượng nhận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3124080"/>
            <a:ext cx="8229600" cy="838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Nội dung cần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kết thú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hấn mạnh nội dung cần thông báo, xác định thời hạn có hiệu lực và quy tắc xử sự sẽ áp dụng nếu có vi phạm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9"/>
          <p:cNvSpPr/>
          <p:nvPr/>
        </p:nvSpPr>
        <p:spPr>
          <a:xfrm>
            <a:off x="457200" y="10666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10"/>
          <p:cNvSpPr/>
          <p:nvPr/>
        </p:nvSpPr>
        <p:spPr>
          <a:xfrm>
            <a:off x="457200" y="3048120"/>
            <a:ext cx="35053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Horizontal Scroll 11"/>
          <p:cNvSpPr/>
          <p:nvPr/>
        </p:nvSpPr>
        <p:spPr>
          <a:xfrm>
            <a:off x="457200" y="40384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9055-53CF-470E-A121-7E78388B6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9BD1-077C-4A09-97C3-4E602719089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ÁC LOẠI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380880" y="11430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0880" y="243828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0880" y="373392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80880" y="50292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676520" y="243828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76520" y="373392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676520" y="502920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91A2-C5A2-45B8-9AA8-F5BCC3EBC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797-E445-4A00-940D-6B9778843B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nghị, hội chợ, triển lãm, sự kiện, vụ việc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hính cần thông báo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tiến hành, mục đích, thời gian, thời hạn, địa điểm, thành phần, đối tượng tham dự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, kết quả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 THÔNG BÁO VỀ SỰ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6A44-6DB1-47ED-A330-4EEC5CDF7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B4DB-4B49-4E24-B5F3-D63875BF474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4" name="Picture 2" descr="http://www.ued.edu.vn/khoatamlygiaoduc/file.php/1/KHOA_TAM_LY_/TB_so_2_HNNCKH_DHDN_nam_2012.jpg"/>
          <p:cNvPicPr/>
          <p:nvPr/>
        </p:nvPicPr>
        <p:blipFill>
          <a:blip r:embed="rId1"/>
          <a:stretch/>
        </p:blipFill>
        <p:spPr>
          <a:xfrm>
            <a:off x="0" y="-9360"/>
            <a:ext cx="4572000" cy="68673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5" name="Picture 4" descr="http://ulsasontay.edu.vn/upload/images/hncbvc0001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6" name="Picture 6" descr="http://www.hcmuarc.edu.vn/upload/product/resize/1359001125_picture-220www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7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9" name="Picture 8" descr="http://www.ueh.edu.vn/userfiles/image/ImgVanBan/P_TC-HC/Nam2011/1306_TB_DHKT.gif"/>
          <p:cNvPicPr/>
          <p:nvPr/>
        </p:nvPicPr>
        <p:blipFill>
          <a:blip r:embed="rId4"/>
          <a:stretch/>
        </p:blipFill>
        <p:spPr>
          <a:xfrm>
            <a:off x="0" y="152280"/>
            <a:ext cx="4572000" cy="655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1:00Z</dcterms:modified>
  <cp:revision>314</cp:revision>
  <dc:subject/>
  <dc:title>Chương 9.2</dc:title>
</cp:coreProperties>
</file>